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C28-8F3C-45B1-8026-DE2EBC8B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900-AD55-45EE-BD17-BBAC6FF4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44A-F068-464C-851F-56938A15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255-8F9A-47E0-AD71-2E63F802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878F-922E-48D1-B45C-0CFF9C46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C81A-BF65-483D-B67D-F8A987AB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B949-5989-4E49-823B-700EF462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7A6F-CBEB-4C17-8FE0-306EF297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BA66-C95B-4F47-BD15-E5C99BDA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C7C3-A0CE-453D-9AAD-04CF3BAF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AC05-5D5F-4C40-BBD2-536D9CE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54D-6634-4D25-A4FB-21964FD3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E735-DDB8-4A0C-BEDA-E9FEA4F7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48E6-A72C-44A4-B599-3BDAF71F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AC0A-1089-4427-AC21-012E6634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40CB-057F-43B3-8F1C-17A6DF52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E982-9FA1-45BF-8622-77C44E86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A9B-D514-4688-96F8-D12272E5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7DF-9487-4F30-9B11-4966CB71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877-187F-47F5-9872-4027626C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AEA-DBF4-42B4-9688-231828CC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D9ED-E46B-4BE8-B208-E75EEED4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CEA-81FD-49B5-9F73-12BD9B63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16F-6196-4675-8687-6710D221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8F43-069C-4F56-873F-F189C9C01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D591-C51D-4CE8-BA5A-219F60621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s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t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w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c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 letters that make 1 soun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= di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 ch sh 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048120"/>
            <a:ext cx="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1825920" cy="1792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52480" y="3505320"/>
            <a:ext cx="2133720" cy="167616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lastslide"/>
          </p:cNvPr>
          <p:cNvSpPr/>
          <p:nvPr/>
        </p:nvSpPr>
        <p:spPr>
          <a:xfrm>
            <a:off x="1905120" y="350532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5486400" y="3581280"/>
            <a:ext cx="1676520" cy="1600200"/>
          </a:xfrm>
          <a:custGeom>
            <a:avLst/>
            <a:gdLst>
              <a:gd name="textAreaLeft" fmla="*/ 103680 w 1676520"/>
              <a:gd name="textAreaRight" fmla="*/ 1572840 w 167652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84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739152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1974960" cy="1698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6553080" y="3733920"/>
            <a:ext cx="91440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143000" y="3514680"/>
            <a:ext cx="2514600" cy="186696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lastslide"/>
          </p:cNvPr>
          <p:cNvSpPr/>
          <p:nvPr/>
        </p:nvSpPr>
        <p:spPr>
          <a:xfrm>
            <a:off x="1066680" y="358128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800600" y="3657600"/>
            <a:ext cx="1828800" cy="1600200"/>
          </a:xfrm>
          <a:custGeom>
            <a:avLst/>
            <a:gdLst>
              <a:gd name="textAreaLeft" fmla="*/ 103680 w 1828800"/>
              <a:gd name="textAreaRight" fmla="*/ 1725120 w 18288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4685" h="21600">
                <a:moveTo>
                  <a:pt x="0" y="0"/>
                </a:moveTo>
                <a:lnTo>
                  <a:pt x="24685" y="0"/>
                </a:lnTo>
                <a:lnTo>
                  <a:pt x="24685" y="21600"/>
                </a:lnTo>
                <a:lnTo>
                  <a:pt x="0" y="21600"/>
                </a:lnTo>
                <a:close/>
              </a:path>
              <a:path fill="lightenLess" w="24685" h="21600">
                <a:moveTo>
                  <a:pt x="0" y="0"/>
                </a:moveTo>
                <a:lnTo>
                  <a:pt x="24685" y="0"/>
                </a:lnTo>
                <a:lnTo>
                  <a:pt x="23285" y="1400"/>
                </a:lnTo>
                <a:lnTo>
                  <a:pt x="1400" y="1400"/>
                </a:lnTo>
                <a:close/>
              </a:path>
              <a:path fill="darken" w="24685" h="21600">
                <a:moveTo>
                  <a:pt x="24685" y="0"/>
                </a:moveTo>
                <a:lnTo>
                  <a:pt x="24685" y="21600"/>
                </a:lnTo>
                <a:lnTo>
                  <a:pt x="23285" y="20200"/>
                </a:lnTo>
                <a:lnTo>
                  <a:pt x="23285" y="1400"/>
                </a:lnTo>
                <a:close/>
              </a:path>
              <a:path fill="darkenLess" w="24685" h="21600">
                <a:moveTo>
                  <a:pt x="24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5" y="20200"/>
                </a:lnTo>
                <a:close/>
              </a:path>
              <a:path fill="lighten" w="24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84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746748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You’re Do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84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y Again Please.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on the arrow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 flipH="1">
            <a:off x="3809520" y="3505320"/>
            <a:ext cx="2057400" cy="20955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4114800" y="3505320"/>
            <a:ext cx="1447920" cy="19047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904760"/>
              <a:gd name="textAreaBottom" fmla="*/ 1811160 h 1904760"/>
            </a:gdLst>
            <a:ahLst/>
            <a:rect l="textAreaLeft" t="textAreaTop" r="textAreaRight" b="textAreaBottom"/>
            <a:pathLst>
              <a:path w="21600" h="28413">
                <a:moveTo>
                  <a:pt x="0" y="0"/>
                </a:moveTo>
                <a:lnTo>
                  <a:pt x="21600" y="0"/>
                </a:lnTo>
                <a:lnTo>
                  <a:pt x="21600" y="28413"/>
                </a:lnTo>
                <a:lnTo>
                  <a:pt x="0" y="28413"/>
                </a:lnTo>
                <a:close/>
              </a:path>
              <a:path fill="lightenLess" w="21600" h="28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13">
                <a:moveTo>
                  <a:pt x="21600" y="0"/>
                </a:moveTo>
                <a:lnTo>
                  <a:pt x="21600" y="28413"/>
                </a:lnTo>
                <a:lnTo>
                  <a:pt x="20200" y="27013"/>
                </a:lnTo>
                <a:lnTo>
                  <a:pt x="20200" y="1400"/>
                </a:lnTo>
                <a:close/>
              </a:path>
              <a:path fill="darkenLess" w="21600" h="28413">
                <a:moveTo>
                  <a:pt x="21600" y="28413"/>
                </a:moveTo>
                <a:lnTo>
                  <a:pt x="0" y="28413"/>
                </a:lnTo>
                <a:lnTo>
                  <a:pt x="1400" y="27013"/>
                </a:lnTo>
                <a:lnTo>
                  <a:pt x="20200" y="27013"/>
                </a:lnTo>
                <a:close/>
              </a:path>
              <a:path fill="lighten" w="21600" h="28413">
                <a:moveTo>
                  <a:pt x="0" y="28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wh 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1486080" cy="1506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1897200" cy="93996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523880" y="3505320"/>
            <a:ext cx="1447920" cy="14475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lastslide"/>
          </p:cNvPr>
          <p:cNvSpPr/>
          <p:nvPr/>
        </p:nvSpPr>
        <p:spPr>
          <a:xfrm>
            <a:off x="5257800" y="36576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1733400" cy="1820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V="1">
            <a:off x="2362320" y="4571640"/>
            <a:ext cx="38088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057400" y="3429000"/>
            <a:ext cx="1752480" cy="1600200"/>
          </a:xfrm>
          <a:custGeom>
            <a:avLst/>
            <a:gdLst>
              <a:gd name="textAreaLeft" fmla="*/ 103680 w 1752480"/>
              <a:gd name="textAreaRight" fmla="*/ 1648800 w 1752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3655" h="21600">
                <a:moveTo>
                  <a:pt x="0" y="0"/>
                </a:moveTo>
                <a:lnTo>
                  <a:pt x="23655" y="0"/>
                </a:lnTo>
                <a:lnTo>
                  <a:pt x="23655" y="21600"/>
                </a:lnTo>
                <a:lnTo>
                  <a:pt x="0" y="21600"/>
                </a:lnTo>
                <a:close/>
              </a:path>
              <a:path fill="lightenLess" w="23655" h="21600">
                <a:moveTo>
                  <a:pt x="0" y="0"/>
                </a:moveTo>
                <a:lnTo>
                  <a:pt x="23655" y="0"/>
                </a:lnTo>
                <a:lnTo>
                  <a:pt x="22255" y="1400"/>
                </a:lnTo>
                <a:lnTo>
                  <a:pt x="1400" y="1400"/>
                </a:lnTo>
                <a:close/>
              </a:path>
              <a:path fill="darken" w="23655" h="21600">
                <a:moveTo>
                  <a:pt x="23655" y="0"/>
                </a:moveTo>
                <a:lnTo>
                  <a:pt x="23655" y="21600"/>
                </a:lnTo>
                <a:lnTo>
                  <a:pt x="22255" y="20200"/>
                </a:lnTo>
                <a:lnTo>
                  <a:pt x="22255" y="1400"/>
                </a:lnTo>
                <a:close/>
              </a:path>
              <a:path fill="darkenLess" w="23655" h="21600">
                <a:moveTo>
                  <a:pt x="23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5" y="20200"/>
                </a:lnTo>
                <a:close/>
              </a:path>
              <a:path fill="lighten" w="23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lastslide"/>
          </p:cNvPr>
          <p:cNvSpPr/>
          <p:nvPr/>
        </p:nvSpPr>
        <p:spPr>
          <a:xfrm>
            <a:off x="5486400" y="358128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8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391520" y="57150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23:30Z</dcterms:created>
  <dc:creator>BCPS</dc:creator>
  <dc:description/>
  <dc:language>en-US</dc:language>
  <cp:lastModifiedBy>Beth Ann</cp:lastModifiedBy>
  <dcterms:modified xsi:type="dcterms:W3CDTF">2009-04-13T01:58:42Z</dcterms:modified>
  <cp:revision>10</cp:revision>
  <dc:subject/>
  <dc:title>2 letters that make 1 sound</dc:title>
</cp:coreProperties>
</file>